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578-213F-42EB-97C9-B65774A7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8A7-362A-43F0-96D2-4B1B36AB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F48-678C-427C-A174-B40211D6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9A4-ECDA-4905-B9C7-AC133F17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20A-5FB9-4E35-9D17-11465876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1FC-3038-4600-8DE6-2280E60A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B33-9D68-41F8-93FA-FB27C135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B73-17A4-4481-A535-ED9FDE2A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49E-DC95-4AC5-B156-B95B90CF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67C-DD2B-46A9-BD15-13A933A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C4C-8B6B-411C-BC7E-BD4FA095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844-EC2A-4930-A344-3ED2E47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440-EE20-4988-9D37-B3A08DEE7A19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forcajovemsc.com.br/wp-content/uploads/2015/02/integraca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Título 1"/>
          <p:cNvSpPr/>
          <p:nvPr/>
        </p:nvSpPr>
        <p:spPr>
          <a:xfrm>
            <a:off x="1657440" y="333360"/>
            <a:ext cx="734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DE MATO GROSSO DO SUL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SECRETARIA DE ESTADO DE EDUCAÇÃO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SCOLA ESTADUAL MIGUEL SUTIL - Cód. 278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Rua Francisco Faustino nº 340 – Centro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Telefone nº (67) 3286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m 3" descr=""/>
          <p:cNvPicPr/>
          <p:nvPr/>
        </p:nvPicPr>
        <p:blipFill>
          <a:blip r:embed="rId2"/>
          <a:stretch/>
        </p:blipFill>
        <p:spPr>
          <a:xfrm>
            <a:off x="576360" y="731880"/>
            <a:ext cx="10810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Subtítulo 2"/>
          <p:cNvSpPr/>
          <p:nvPr/>
        </p:nvSpPr>
        <p:spPr>
          <a:xfrm>
            <a:off x="755640" y="3963960"/>
            <a:ext cx="76327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d0d0d"/>
                </a:solidFill>
                <a:latin typeface="Arial"/>
              </a:rPr>
              <a:t>Marli Borges da Co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d0d0d"/>
                </a:solidFill>
                <a:latin typeface="Arial"/>
              </a:rPr>
              <a:t>Prof.ª Gerenciadora de 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d0d0d"/>
                </a:solidFill>
                <a:latin typeface="Arial"/>
              </a:rPr>
              <a:t>educacionais e recursos midiá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d0d0d"/>
                </a:solidFill>
                <a:latin typeface="Arial"/>
              </a:rPr>
              <a:t>Progetec – Camapuã/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forcajovemsc.com.br/wp-content/uploads/2015/02/integraca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pode avaliar usando os seguintes recursos tecnológ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s alunos reproduzirão por escrito uma história usando o editor de texto onde serão avaliados pela escrit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valiar o aluno através de resumo feitos em slid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edir para o aluno fazer um trabalho em slides e apresentar usando o projetor multimídia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edir para o aluno fazer um vídeo de entrevista e apresentar o vídeo através do projetor multimídias e suas orientações servirão de instrumento de avaliaçã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forcajovemsc.com.br/wp-content/uploads/2015/02/integraca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crição de duas situações de avalição que ocorreu na escola com o uso das 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1412640"/>
            <a:ext cx="8507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professora de Língua Portuguesa realizou uma avaliação usando o face da escola; onde os alunos tiveram que escrever o motivo de gostarem de estudar na escola e o texto que teve mais curtidas e que não teve erros de português ganhou dois pont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professora de Língua Portuguesa realizou uma avaliação onde explicou aos alunos o que é um e-mail e como usá-lo . Após a explicação os alunos tiveram que abrir um e-mail e enviar um e-mail para a professo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forcajovemsc.com.br/wp-content/uploads/2015/02/integraca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pode avaliar usando os seguintes recursos tecnológ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azer pesquisa sobre o texto e após criar e configurar  slides de forma criativ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Usar o multimídia para os alunos apresentarem os trabalhos realizado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valiar a escrita do aluno através de textos digitado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valiar o aluno através de gamificação com mecânica de pontuação, prêmios, missões, desafios, rank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5T00:54:58Z</dcterms:created>
  <dc:creator>Marli Borges</dc:creator>
  <dc:description/>
  <dc:language>en-US</dc:language>
  <cp:lastModifiedBy>Marli Borges</cp:lastModifiedBy>
  <dcterms:modified xsi:type="dcterms:W3CDTF">2015-08-30T18:49:54Z</dcterms:modified>
  <cp:revision>41</cp:revision>
  <dc:subject/>
  <dc:title>ESTADO DE MATO GROSSO DO SUL    SECRETARIA DE ESTADO DE EDUCAÇÃO ESCOLA ESTADUAL MIGUEL SUTIL - Cód. 278  Rua Francisco Faustino nº 340 – Centro Telefone nº (67) 3286-1883</dc:title>
</cp:coreProperties>
</file>